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DE8A6-5925-45C5-9438-4755D7331E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Глобаль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человеч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E31E7-06CE-408F-AC02-95E48D7C52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Проявление экологической 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«озоновая дыра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истребление лес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«парниковый» эффект (глобальное потепление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загрязнение окружающей среды.ТБ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стихийные бедствия: тайфуны, цунами, ураганы, землетрясения, наводнения, засух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нарушения в окружающей среде, связанные с освоением космоса и Мирового океа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EA705-500C-41BC-8BAC-60AC315A15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Тема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Загрязнение окружающей среды ТБ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3300"/>
                </a:solidFill>
                <a:latin typeface="Arial Black"/>
              </a:rPr>
              <a:t>Цель урока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дать понятие “твердые бытовые отходы”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акцентировать внимание на проблемах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возникающих с увеличением количества ТБ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совместно с  учащимися найти возможные варианты решения данной 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C86E2-C6B8-4A78-8375-25BA7278BD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Arial Black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Изучим проблему твердых бытовых отходов и предложим пути ее решени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Определим общее количество бытовых отходов населенного пункта – города Чебоксары и их процентное распределение по разным категория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Постараемся дать ответ на вопрос “Что могу сделать я в решении данной проблемы?”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33927-2C2D-453A-97FA-B833A8E690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 Black"/>
              </a:rPr>
              <a:t>Практическая раб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Выберите цитату,  которая с вашей точки зрения, наиболее полно отражает смысл нашего урока, и подумайте, как прокомментировать данное выражение. </a:t>
            </a:r>
            <a:r>
              <a:rPr b="0" i="1" lang="ru-RU" sz="1000" spc="-1" strike="noStrike">
                <a:solidFill>
                  <a:srgbClr val="ffffff"/>
                </a:solidFill>
                <a:latin typeface="Arial Black"/>
              </a:rPr>
              <a:t>(Все мнения детей принимаются без комментариев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0B3E1-2106-4DD3-8D1E-A2504F9143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Мнение экспе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«Экскурсия по городу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ff3300"/>
                </a:solidFill>
                <a:latin typeface="Arial Black"/>
              </a:rPr>
              <a:t>Вывод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977C8-773B-48AD-8B52-5277DFE007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 Black"/>
              </a:rPr>
              <a:t>Проблема ТБ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 Black"/>
              </a:rPr>
              <a:t>в микрорайоне МОУ «СОШ 33»</a:t>
            </a:r>
            <a:r>
              <a:rPr b="0" lang="ru-RU" sz="1100" spc="-1" strike="noStrike">
                <a:solidFill>
                  <a:srgbClr val="ff3300"/>
                </a:solidFill>
                <a:latin typeface="Arial Black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Количество отходов, приходящееся на 1 человека – 0,7 кг в сут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Примерное количество отходов, приходящееся на жилой микрорайон /600 жителей / – 480 к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 Black"/>
              </a:rPr>
              <a:t>ВЫВОД:</a:t>
            </a: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 отходов много, основная часть их приходится на бумагу,  пищевые отходы и пластиковые отх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33C0F-240B-4071-A633-E4886B0CAE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Мнение экспе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«Фотофак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ff3300"/>
                </a:solidFill>
                <a:latin typeface="Arial Black"/>
              </a:rPr>
              <a:t>Вывод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F25CF-8611-4270-81E8-3FEA2F3C68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Мнение экспе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«Способы избавления отходов в городах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97296-1CC6-482D-ADB6-A7194FD8C3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7BA95-B74B-4C06-BE88-680E95B81D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Arial"/>
              </a:rPr>
              <a:t>«</a:t>
            </a:r>
            <a:r>
              <a:rPr b="1" i="1" lang="ru-RU" sz="1200" spc="-1" strike="noStrike">
                <a:solidFill>
                  <a:srgbClr val="cc3300"/>
                </a:solidFill>
                <a:latin typeface="Arial"/>
              </a:rPr>
              <a:t>Что может сделать каждый из нас для решения проблемы бытовых отходов?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4208D-67B7-4C04-9411-9EB48DAB0B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Arial"/>
              </a:rPr>
              <a:t>Старайтесь сократить количество отходов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Вместо предметов одноразового использования старайтесь использовать более стойкие (например, вместо пластиковой посуды – керамическую или стеклянную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Ненужные Вам вещи перепродайте или передайте нуждающимся (например, через благотворительные организаци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При выборе покупки отдайте предпочтение товару в упаковке многоразового использов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Всегда имейте с собой в сумке или портфеле матерчатую сумку с ручками для покуп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Повторно используйте полиэтиленовые паке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Сократите расходы бумаги, используя обе стороны лис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8B89-8DD4-4FC1-93FB-431EC8FA82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Arial Black"/>
              </a:rPr>
              <a:t>Улучшите систему обращения с бытовыми отход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Сортируйте отходы и сдавайте мусор, который можно использовать повторно или перерабатывать (стеклянные бутылки, макулатуру, жестяные банки и др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Пищевые отходы (особенно на садовом участке) используйте для приготовления компос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Arial Black"/>
              </a:rPr>
              <a:t>Будьте культурны и дисциплинирован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Не бросайте мусор мимо ур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Не оставляйте пакеты с мусором в не отведенных для этого местах (в подъездах, на улицах, во дворах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Не создавайте «несанкционированных» свалок вблизи жилья или садового участ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Не поджигайте мусор в урнах и мусорных контейнер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Практическая рабо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Карта позн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FD7FF-2055-4A94-9F03-B31FDD68CE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 Black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8CAB0-53B7-4DFB-B2AE-62C162D2BA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 Black"/>
              </a:rPr>
              <a:t>Практическая раб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 Black"/>
              </a:rPr>
              <a:t>Найдите соответ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 Black"/>
              </a:rPr>
              <a:t>Глобальные проблемы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i="1" lang="ru-RU" sz="1200" spc="-1" strike="noStrike">
                <a:solidFill>
                  <a:srgbClr val="ffffff"/>
                </a:solidFill>
                <a:latin typeface="Arial Black"/>
              </a:rPr>
              <a:t>Проявления глобальных проблем</a:t>
            </a:r>
            <a:r>
              <a:rPr b="0" i="1" lang="ru-RU" sz="11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36DB6-F553-4991-864D-94471626F0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Соци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демографическая пробл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проблема охраны здоровья (распространение опасных заболеваний: рака, СПИДа, атипичной пневмонии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проблема образования  (1 миллиард неграмотных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этнические, межконфессиональные конфлик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1DB9A-97CE-422F-948F-DB10EA8CCA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Эконом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продовольственная пробл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полюса развития: «Север—Юг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проблема пределов экономического ро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истощение ресурс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экономический глобализ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085D2-06FA-4C11-9C50-B8FE7F1BBC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Духов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деградация «массовой культуры», девальвация моральных и нравственных ценнос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уход людей от реальности в мир иллюзий (наркома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рост агрессии, нервно-психических заболеваний, в т.ч. из-за массовой компьютер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проблема ответственности учёных за последствия своих открыт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23C37-DF86-4F6C-8607-BA6E8B638B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Полит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проблема войны и мира: возможность перерастания локальных конфликтов в глобальные, опасность ядерной вой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сохраняющиеся полюса противостояния, борьба за сферы влияния (США – Европа – Россия – Азиатско - Тихоокеанский регио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различия политических систем (демократия, авторитаризм, тоталитариз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терроризм (международный, внутриполитический, уголовный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A41F3-1704-4F3C-B981-C6E3465989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Эколог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«озоновая дыра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истребление лес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«парниковый» эффек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загрязнение окружающей среды: атмосферы, почвы, вод Мирового океана, продуктов пит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стихийные бедствия: тайфуны, цунами, ураганы, землетрясения, наводнения, засух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нарушения в окружающей среде, связанные с освоением космоса и Мирового океа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26167-DF55-4A85-BD58-BBCFACCE9C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bbe0e3"/>
                </a:solidFill>
                <a:latin typeface="Impact"/>
              </a:rPr>
              <a:t>ЭКОЛОГИЧЕСК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bbe0e3"/>
                </a:solidFill>
                <a:latin typeface="Impact"/>
              </a:rPr>
              <a:t>ПРОБЛ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51D7D-F3E6-49C2-9D29-549B2E6C85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AF9B-83B2-42DD-AED3-49EE4F84F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5A6F-29C3-4262-9B7A-56F4E4C1C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FF50-E6C8-49E7-B053-51F82FDA3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7A86-43C2-474A-A849-1A5F500F6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E6207-ED8C-44DC-B4EF-0FBC12B05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43D5B-32AA-408E-B267-0716BF932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BD7AC-EC56-4A5A-BC1D-5539CD02B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57993-E9B7-4BF1-8968-C352C7256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996CD-EBD6-425D-AEC6-D0653A9DA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B8579-A97E-422C-AE54-7425B138D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2CCD5-EFBC-463E-B2D2-7696F1C1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0CE0-F918-4890-A0FC-CA237E3CE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1B55A-C05A-4EF6-8BF6-015EA8AB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3466F-937E-4EAD-A980-F7C37E8C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83646-1DC5-441A-A02A-912334005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A46DC-967F-43EA-8BD5-398C3B18E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7CECD-E687-4DCF-AF7F-D97ED55AF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6027C-D633-424E-A94B-3D703F1BC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D6886-BEDB-4218-8392-E7B0D97FD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FB33F-77C7-4F38-8FE1-AA1C8CEAA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F8D36-CF1A-4058-8A7C-6958C1B46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76B5F-0972-4C4F-A51C-55E77386B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E8D0-C403-41F6-BEF1-9C9A194C9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12B4A-C63C-40FD-8449-33F0F49F0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52584-0E9A-470A-B96C-B5A5A971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45382-AE9D-4CF6-ADC0-31E4FF12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9776E-3EE6-4608-94D7-C3E5A7F5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F6691-07B4-454F-88D0-0F7251D24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66D25-9F28-4A0D-9FEE-EAE6E50E9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31422-5AF8-4B32-B95C-03B9101AD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DCB2-CBBC-4D96-BB52-E406B145E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6F21-6EB9-41E0-B2CB-2239698EC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4825-A11E-494B-A817-03BAF1A85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757D-3027-48D8-9919-23C3EFFA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233E-99ED-4E23-AAD3-38F5794F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6A75-AB61-41C4-B5A0-30110C85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A9AB0-F91E-4DF2-AF68-7ECD2790A5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visual_new_4"/>
          <p:cNvPicPr/>
          <p:nvPr/>
        </p:nvPicPr>
        <p:blipFill>
          <a:blip r:embed="rId2"/>
          <a:stretch/>
        </p:blipFill>
        <p:spPr>
          <a:xfrm>
            <a:off x="0" y="0"/>
            <a:ext cx="2158920" cy="1881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EC329-4F2A-4A3D-80B8-104F08987F8C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visual_new_4"/>
          <p:cNvPicPr/>
          <p:nvPr/>
        </p:nvPicPr>
        <p:blipFill>
          <a:blip r:embed="rId2"/>
          <a:stretch/>
        </p:blipFill>
        <p:spPr>
          <a:xfrm>
            <a:off x="466560" y="2184480"/>
            <a:ext cx="2659320" cy="23162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4FB56-98ED-4720-B46E-2AB9D47D349F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54617327"/>
          <p:cNvPicPr/>
          <p:nvPr/>
        </p:nvPicPr>
        <p:blipFill>
          <a:blip r:embed="rId1"/>
          <a:stretch/>
        </p:blipFill>
        <p:spPr>
          <a:xfrm>
            <a:off x="324000" y="0"/>
            <a:ext cx="8604000" cy="68835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3"/>
          <p:cNvSpPr/>
          <p:nvPr/>
        </p:nvSpPr>
        <p:spPr>
          <a:xfrm>
            <a:off x="0" y="0"/>
            <a:ext cx="9144000" cy="6910560"/>
          </a:xfrm>
          <a:prstGeom prst="rect">
            <a:avLst/>
          </a:prstGeom>
          <a:gradFill rotWithShape="0">
            <a:gsLst>
              <a:gs pos="0">
                <a:srgbClr val="808080">
                  <a:alpha val="6274"/>
                </a:srgbClr>
              </a:gs>
              <a:gs pos="100000">
                <a:srgbClr val="3b3b3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WordArt 4"/>
          <p:cNvSpPr txBox="1"/>
          <p:nvPr/>
        </p:nvSpPr>
        <p:spPr>
          <a:xfrm>
            <a:off x="324000" y="1125360"/>
            <a:ext cx="849600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8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57240">
                  <a:solidFill>
                    <a:srgbClr val="ffff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Глобальные </a:t>
            </a:r>
            <a:endParaRPr b="1" lang="en-US" sz="1800" spc="1" strike="noStrike">
              <a:ln w="57240">
                <a:solidFill>
                  <a:srgbClr val="ffff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57240">
                  <a:solidFill>
                    <a:srgbClr val="ffff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проблемы</a:t>
            </a:r>
            <a:endParaRPr b="1" lang="en-US" sz="1800" spc="1" strike="noStrike">
              <a:ln w="57240">
                <a:solidFill>
                  <a:srgbClr val="ffff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5724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Impact"/>
              </a:rPr>
              <a:t> </a:t>
            </a:r>
            <a:r>
              <a:rPr b="1" lang="en-US" sz="1800" spc="1" strike="noStrike">
                <a:ln w="57240">
                  <a:solidFill>
                    <a:srgbClr val="ffff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latin typeface="Impact"/>
              </a:rPr>
              <a:t>человечества</a:t>
            </a:r>
            <a:endParaRPr b="1" lang="en-US" sz="1800" spc="1" strike="noStrike">
              <a:ln w="57240">
                <a:solidFill>
                  <a:srgbClr val="ffff00"/>
                </a:solidFill>
                <a:miter/>
              </a:ln>
              <a:blipFill rotWithShape="0">
                <a:blip r:embed="rId8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54617327"/>
          <p:cNvPicPr/>
          <p:nvPr/>
        </p:nvPicPr>
        <p:blipFill>
          <a:blip r:embed="rId1"/>
          <a:stretch/>
        </p:blipFill>
        <p:spPr>
          <a:xfrm>
            <a:off x="324000" y="0"/>
            <a:ext cx="8604000" cy="688356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3"/>
          <p:cNvSpPr/>
          <p:nvPr/>
        </p:nvSpPr>
        <p:spPr>
          <a:xfrm>
            <a:off x="0" y="-81000"/>
            <a:ext cx="9144000" cy="6939000"/>
          </a:xfrm>
          <a:prstGeom prst="rect">
            <a:avLst/>
          </a:prstGeom>
          <a:gradFill rotWithShape="0">
            <a:gsLst>
              <a:gs pos="0">
                <a:srgbClr val="808080">
                  <a:alpha val="6274"/>
                </a:srgbClr>
              </a:gs>
              <a:gs pos="100000">
                <a:srgbClr val="3b3b3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395280" y="1052640"/>
            <a:ext cx="8748720" cy="435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«озоновая дыра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истребление лес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«парниковый» эффект (глобальное потепление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Arial Black"/>
              </a:rPr>
              <a:t>загрязнение окружающей среды.ТБ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стихийные бедствия: тайфуны, цунами, ураганы, землетрясения, наводнения, засух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нарушения в окружающей среде, связанные с освоением космоса и Мирового оке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WordArt 5"/>
          <p:cNvSpPr txBox="1"/>
          <p:nvPr/>
        </p:nvSpPr>
        <p:spPr>
          <a:xfrm>
            <a:off x="250920" y="0"/>
            <a:ext cx="87138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7618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Проявление экологической проблемы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7618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1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5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200" name="Picture 2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Rectangle 3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Text Box 7"/>
          <p:cNvSpPr/>
          <p:nvPr/>
        </p:nvSpPr>
        <p:spPr>
          <a:xfrm>
            <a:off x="0" y="476280"/>
            <a:ext cx="914400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 Black"/>
              </a:rPr>
              <a:t>Тема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ff3300"/>
                </a:solidFill>
                <a:latin typeface="Arial Black"/>
              </a:rPr>
              <a:t>Загрязнение окружающей среды ТБ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324000" y="2802240"/>
            <a:ext cx="8820000" cy="362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3300"/>
                </a:solidFill>
                <a:latin typeface="Arial Black"/>
              </a:rPr>
              <a:t>Цель урок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дать понятие “твердые бытовые отходы”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акцентировать внимание на проблемах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возникающих с увеличением количества ТБ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совместно с  учащимися найти возможные варианты решения данной пробл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206" name="Picture 3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Rectangle 4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0" y="407160"/>
            <a:ext cx="9144000" cy="478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Arial Black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Изучим проблему твердых бытовых отходов и предложим пути ее реше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Определим общее количество бытовых отходов населенного пункта – города Чебоксары и их процентное распределение по разным категория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остараемся дать ответ на вопрос “Что могу сделать я в решении данной проблемы?”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5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211" name="Picture 2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Rectangle 3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Text Box 6"/>
          <p:cNvSpPr/>
          <p:nvPr/>
        </p:nvSpPr>
        <p:spPr>
          <a:xfrm>
            <a:off x="2335320" y="260280"/>
            <a:ext cx="392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Практическ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468360" y="981000"/>
            <a:ext cx="8675640" cy="21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Выберите цитату,  которая с вашей точки зрения, наиболее полно отражает смысл нашего урока, и подумайте, как прокомментировать данное выражение. </a:t>
            </a:r>
            <a:r>
              <a:rPr b="0" i="1" lang="ru-RU" sz="2000" spc="-1" strike="noStrike">
                <a:solidFill>
                  <a:srgbClr val="ffffff"/>
                </a:solidFill>
                <a:latin typeface="Arial Black"/>
              </a:rPr>
              <a:t>(Все мнения детей принимаются без комментарие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2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217" name="Picture 3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Rectangle 4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 Box 5"/>
          <p:cNvSpPr/>
          <p:nvPr/>
        </p:nvSpPr>
        <p:spPr>
          <a:xfrm>
            <a:off x="324000" y="692280"/>
            <a:ext cx="8824680" cy="247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 Black"/>
              </a:rPr>
              <a:t>Мнение экспер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 Black"/>
              </a:rPr>
              <a:t>«Экскурсия по городу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 Black"/>
              </a:rPr>
              <a:t>Выв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5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222" name="Picture 2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Rectangle 3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Text Box 7"/>
          <p:cNvSpPr/>
          <p:nvPr/>
        </p:nvSpPr>
        <p:spPr>
          <a:xfrm>
            <a:off x="468360" y="2205000"/>
            <a:ext cx="867564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Количество отходов, приходящееся на 1 человека – 0,7 кг в су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Примерное количество отходов, приходящееся на жилой микрорайон /600 жителей / – 480 к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 Black"/>
              </a:rPr>
              <a:t>ВЫВОД: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 отходов много, основная часть их приходится на бумагу,  пищевые отходы и пластиковые отх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8"/>
          <p:cNvSpPr/>
          <p:nvPr/>
        </p:nvSpPr>
        <p:spPr>
          <a:xfrm>
            <a:off x="0" y="476280"/>
            <a:ext cx="91440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Проблема ТБ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в микрорайоне МОУ «СОШ 33»</a:t>
            </a:r>
            <a:r>
              <a:rPr b="0" lang="ru-RU" sz="2400" spc="-1" strike="noStrike">
                <a:solidFill>
                  <a:srgbClr val="ff33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2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228" name="Picture 3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Rectangle 4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Text Box 5"/>
          <p:cNvSpPr/>
          <p:nvPr/>
        </p:nvSpPr>
        <p:spPr>
          <a:xfrm>
            <a:off x="395280" y="692280"/>
            <a:ext cx="8748720" cy="247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 Black"/>
              </a:rPr>
              <a:t>Мнение экспер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 Black"/>
              </a:rPr>
              <a:t>«Фотофакт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 Black"/>
              </a:rPr>
              <a:t>Выв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54617327"/>
          <p:cNvPicPr/>
          <p:nvPr/>
        </p:nvPicPr>
        <p:blipFill>
          <a:blip r:embed="rId1"/>
          <a:stretch/>
        </p:blipFill>
        <p:spPr>
          <a:xfrm>
            <a:off x="324000" y="0"/>
            <a:ext cx="8604000" cy="688356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3"/>
          <p:cNvSpPr/>
          <p:nvPr/>
        </p:nvSpPr>
        <p:spPr>
          <a:xfrm>
            <a:off x="0" y="0"/>
            <a:ext cx="9144000" cy="6910560"/>
          </a:xfrm>
          <a:prstGeom prst="rect">
            <a:avLst/>
          </a:prstGeom>
          <a:gradFill rotWithShape="0">
            <a:gsLst>
              <a:gs pos="0">
                <a:srgbClr val="808080">
                  <a:alpha val="6274"/>
                </a:srgbClr>
              </a:gs>
              <a:gs pos="100000">
                <a:srgbClr val="3b3b3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24000" y="692280"/>
            <a:ext cx="882468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 Black"/>
              </a:rPr>
              <a:t>Мнение экспер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 Black"/>
              </a:rPr>
              <a:t>«Способы избавления отходов в городах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94920" y="2418840"/>
            <a:ext cx="597708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Verdana"/>
              </a:rPr>
              <a:t>«</a:t>
            </a:r>
            <a:r>
              <a:rPr b="1" i="1" lang="ru-RU" sz="2000" spc="-1" strike="noStrike">
                <a:solidFill>
                  <a:srgbClr val="cc3300"/>
                </a:solidFill>
                <a:latin typeface="Verdana"/>
              </a:rPr>
              <a:t>Что может сделать каждый из нас для решения проблемы бытовых отходов?»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7" name="Picture 3" descr="Sasha_09 copy"/>
          <p:cNvPicPr/>
          <p:nvPr/>
        </p:nvPicPr>
        <p:blipFill>
          <a:blip r:embed="rId1"/>
          <a:stretch/>
        </p:blipFill>
        <p:spPr>
          <a:xfrm>
            <a:off x="6516720" y="2276640"/>
            <a:ext cx="1933560" cy="359856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Sasha_09 copy"/>
          <p:cNvPicPr/>
          <p:nvPr/>
        </p:nvPicPr>
        <p:blipFill>
          <a:blip r:embed="rId1"/>
          <a:stretch/>
        </p:blipFill>
        <p:spPr>
          <a:xfrm>
            <a:off x="6948360" y="2421000"/>
            <a:ext cx="1933560" cy="359892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3"/>
          <p:cNvSpPr/>
          <p:nvPr/>
        </p:nvSpPr>
        <p:spPr>
          <a:xfrm>
            <a:off x="2761920" y="189000"/>
            <a:ext cx="575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Старайтесь сократить количество отходов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2087640" y="620640"/>
            <a:ext cx="705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Вместо предметов одноразового использования старайтесь использовать более стойкие (например, вместо пластиковой посуды – керамическую или стеклянную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179280" y="1916280"/>
            <a:ext cx="70581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енужные Вам вещи перепродайте или передайте нуждающимся (например, через благотворительные организаци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ри выборе покупки отдайте предпочтение товару в упаковке многоразового использов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Всегда имейте с собой в сумке или портфеле матерчатую сумку с ручками для покуп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овторно используйте полиэтиленовые паке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Сократите расходы бумаги, используя обе стороны ли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54617327"/>
          <p:cNvPicPr/>
          <p:nvPr/>
        </p:nvPicPr>
        <p:blipFill>
          <a:blip r:embed="rId1"/>
          <a:stretch/>
        </p:blipFill>
        <p:spPr>
          <a:xfrm>
            <a:off x="324000" y="0"/>
            <a:ext cx="8604000" cy="68835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3"/>
          <p:cNvSpPr/>
          <p:nvPr/>
        </p:nvSpPr>
        <p:spPr>
          <a:xfrm>
            <a:off x="0" y="0"/>
            <a:ext cx="9144000" cy="6910560"/>
          </a:xfrm>
          <a:prstGeom prst="rect">
            <a:avLst/>
          </a:prstGeom>
          <a:gradFill rotWithShape="0">
            <a:gsLst>
              <a:gs pos="0">
                <a:srgbClr val="808080">
                  <a:alpha val="6274"/>
                </a:srgbClr>
              </a:gs>
              <a:gs pos="100000">
                <a:srgbClr val="3b3b3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4"/>
          <p:cNvSpPr/>
          <p:nvPr/>
        </p:nvSpPr>
        <p:spPr>
          <a:xfrm>
            <a:off x="3276720" y="189000"/>
            <a:ext cx="2808000" cy="1728720"/>
          </a:xfrm>
          <a:prstGeom prst="ellipse">
            <a:avLst/>
          </a:prstGeom>
          <a:gradFill rotWithShape="0">
            <a:gsLst>
              <a:gs pos="0">
                <a:srgbClr val="bbe0e3">
                  <a:alpha val="30196"/>
                </a:srgbClr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Экологические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5"/>
          <p:cNvSpPr/>
          <p:nvPr/>
        </p:nvSpPr>
        <p:spPr>
          <a:xfrm>
            <a:off x="5651640" y="4724280"/>
            <a:ext cx="2808000" cy="1729080"/>
          </a:xfrm>
          <a:prstGeom prst="ellipse">
            <a:avLst/>
          </a:prstGeom>
          <a:gradFill rotWithShape="0">
            <a:gsLst>
              <a:gs pos="0">
                <a:srgbClr val="bbe0e3">
                  <a:alpha val="30196"/>
                </a:srgbClr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Экономические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6"/>
          <p:cNvSpPr/>
          <p:nvPr/>
        </p:nvSpPr>
        <p:spPr>
          <a:xfrm>
            <a:off x="179280" y="1989000"/>
            <a:ext cx="2808360" cy="1729080"/>
          </a:xfrm>
          <a:prstGeom prst="ellipse">
            <a:avLst/>
          </a:prstGeom>
          <a:gradFill rotWithShape="0">
            <a:gsLst>
              <a:gs pos="0">
                <a:srgbClr val="bbe0e3">
                  <a:alpha val="30196"/>
                </a:srgbClr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олитические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7"/>
          <p:cNvSpPr/>
          <p:nvPr/>
        </p:nvSpPr>
        <p:spPr>
          <a:xfrm>
            <a:off x="6335640" y="1989000"/>
            <a:ext cx="2808360" cy="1729080"/>
          </a:xfrm>
          <a:prstGeom prst="ellipse">
            <a:avLst/>
          </a:prstGeom>
          <a:gradFill rotWithShape="0">
            <a:gsLst>
              <a:gs pos="0">
                <a:srgbClr val="bbe0e3">
                  <a:alpha val="30196"/>
                </a:srgbClr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Социальные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8"/>
          <p:cNvSpPr/>
          <p:nvPr/>
        </p:nvSpPr>
        <p:spPr>
          <a:xfrm>
            <a:off x="1332000" y="4724280"/>
            <a:ext cx="2808360" cy="1729080"/>
          </a:xfrm>
          <a:prstGeom prst="ellipse">
            <a:avLst/>
          </a:prstGeom>
          <a:gradFill rotWithShape="0">
            <a:gsLst>
              <a:gs pos="0">
                <a:srgbClr val="bbe0e3">
                  <a:alpha val="30196"/>
                </a:srgbClr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Духовные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9"/>
          <p:cNvSpPr/>
          <p:nvPr/>
        </p:nvSpPr>
        <p:spPr>
          <a:xfrm flipV="1">
            <a:off x="3059280" y="2852280"/>
            <a:ext cx="3241440" cy="187164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0"/>
          <p:cNvSpPr/>
          <p:nvPr/>
        </p:nvSpPr>
        <p:spPr>
          <a:xfrm flipV="1">
            <a:off x="3059280" y="1916280"/>
            <a:ext cx="1728720" cy="2808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1"/>
          <p:cNvSpPr/>
          <p:nvPr/>
        </p:nvSpPr>
        <p:spPr>
          <a:xfrm flipH="1" flipV="1">
            <a:off x="4788000" y="1915920"/>
            <a:ext cx="2016000" cy="281124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2"/>
          <p:cNvSpPr/>
          <p:nvPr/>
        </p:nvSpPr>
        <p:spPr>
          <a:xfrm flipH="1" flipV="1">
            <a:off x="1835280" y="3716280"/>
            <a:ext cx="1296720" cy="1008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3"/>
          <p:cNvSpPr/>
          <p:nvPr/>
        </p:nvSpPr>
        <p:spPr>
          <a:xfrm flipH="1">
            <a:off x="1979280" y="1052640"/>
            <a:ext cx="1297080" cy="936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4"/>
          <p:cNvSpPr/>
          <p:nvPr/>
        </p:nvSpPr>
        <p:spPr>
          <a:xfrm flipH="1" flipV="1">
            <a:off x="6011640" y="1052280"/>
            <a:ext cx="1439640" cy="936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5"/>
          <p:cNvSpPr/>
          <p:nvPr/>
        </p:nvSpPr>
        <p:spPr>
          <a:xfrm flipH="1">
            <a:off x="6803640" y="3716280"/>
            <a:ext cx="647640" cy="1008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6"/>
          <p:cNvSpPr/>
          <p:nvPr/>
        </p:nvSpPr>
        <p:spPr>
          <a:xfrm flipH="1">
            <a:off x="4140000" y="5516640"/>
            <a:ext cx="143964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7"/>
          <p:cNvSpPr/>
          <p:nvPr/>
        </p:nvSpPr>
        <p:spPr>
          <a:xfrm flipH="1" flipV="1">
            <a:off x="2987280" y="2852640"/>
            <a:ext cx="3745080" cy="187344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8"/>
          <p:cNvSpPr/>
          <p:nvPr/>
        </p:nvSpPr>
        <p:spPr>
          <a:xfrm flipV="1">
            <a:off x="2916360" y="2781360"/>
            <a:ext cx="3456000" cy="712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Masha_03 copy"/>
          <p:cNvPicPr/>
          <p:nvPr/>
        </p:nvPicPr>
        <p:blipFill>
          <a:blip r:embed="rId1"/>
          <a:stretch/>
        </p:blipFill>
        <p:spPr>
          <a:xfrm>
            <a:off x="324000" y="1989000"/>
            <a:ext cx="2030400" cy="386712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3"/>
          <p:cNvSpPr/>
          <p:nvPr/>
        </p:nvSpPr>
        <p:spPr>
          <a:xfrm>
            <a:off x="2286000" y="692280"/>
            <a:ext cx="6858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 Black"/>
              </a:rPr>
              <a:t>Улучшите систему обращения с бытовыми отход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Сортируйте отходы и сдавайте мусор, который можно использовать повторно или перерабатывать (стеклянные бутылки, макулатуру, жестяные банки и др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Пищевые отходы (особенно на садовом участке) используйте для приготовления компо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 Black"/>
              </a:rPr>
              <a:t>Будьте культурны и дисциплинирован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Не бросайте мусор мимо ур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Не оставляйте пакеты с мусором в не отведенных для этого местах (в подъездах, на улицах, во дворах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Не создавайте «несанкционированных» свалок вблизи жилья или садового участ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Не поджигайте мусор в урнах и мусорных контейнер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Group 2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248" name="Picture 3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Rectangle 4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Text Box 5"/>
          <p:cNvSpPr/>
          <p:nvPr/>
        </p:nvSpPr>
        <p:spPr>
          <a:xfrm>
            <a:off x="0" y="404640"/>
            <a:ext cx="91440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 Black"/>
              </a:rPr>
              <a:t>Практическая рабо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 Black"/>
              </a:rPr>
              <a:t>Карта позн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6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253" name="Picture 2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Rectangle 3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Text Box 8"/>
          <p:cNvSpPr/>
          <p:nvPr/>
        </p:nvSpPr>
        <p:spPr>
          <a:xfrm>
            <a:off x="0" y="496800"/>
            <a:ext cx="9144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Домашнее зад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2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155" name="Picture 3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Rectangle 4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Text Box 5"/>
          <p:cNvSpPr/>
          <p:nvPr/>
        </p:nvSpPr>
        <p:spPr>
          <a:xfrm>
            <a:off x="0" y="260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Практическ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0" y="1639440"/>
            <a:ext cx="9144000" cy="3933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 Black"/>
              </a:rPr>
              <a:t>Найдите соотве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 Black"/>
              </a:rPr>
              <a:t>Глобальные проблемы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i="1" lang="ru-RU" sz="2800" spc="-1" strike="noStrike">
                <a:solidFill>
                  <a:srgbClr val="ffffff"/>
                </a:solidFill>
                <a:latin typeface="Arial Black"/>
              </a:rPr>
              <a:t>Проявления глобальных проблем</a:t>
            </a:r>
            <a:r>
              <a:rPr b="0" i="1" lang="ru-RU" sz="2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7"/>
          <p:cNvSpPr/>
          <p:nvPr/>
        </p:nvSpPr>
        <p:spPr>
          <a:xfrm>
            <a:off x="4716360" y="3573360"/>
            <a:ext cx="0" cy="11509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6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162" name="Picture 2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Rectangle 3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WordArt 4"/>
            <p:cNvSpPr txBox="1"/>
            <p:nvPr/>
          </p:nvSpPr>
          <p:spPr>
            <a:xfrm>
              <a:off x="2195640" y="333360"/>
              <a:ext cx="4895640" cy="86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1" strike="noStrike">
                  <a:ln w="19080">
                    <a:solidFill>
                      <a:srgbClr val="ff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Социальные</a:t>
              </a:r>
              <a:endParaRPr b="1" lang="en-US" sz="48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65" name="Text Box 7"/>
          <p:cNvSpPr/>
          <p:nvPr/>
        </p:nvSpPr>
        <p:spPr>
          <a:xfrm>
            <a:off x="179280" y="2060640"/>
            <a:ext cx="8964720" cy="350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демографическая пробл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облема охраны здоровья (распространение опасных заболеваний: рака, СПИДа, атипичной пневмонии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облема образования  (1 миллиард неграмотных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этнические, межконфессиональные конфлик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168" name="Picture 2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Rectangle 3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WordArt 6"/>
          <p:cNvSpPr txBox="1"/>
          <p:nvPr/>
        </p:nvSpPr>
        <p:spPr>
          <a:xfrm>
            <a:off x="1835280" y="549360"/>
            <a:ext cx="61214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кономические</a:t>
            </a:r>
            <a:endParaRPr b="1" lang="en-US" sz="48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324000" y="2276640"/>
            <a:ext cx="8820000" cy="222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одовольственная пробл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олюса развития: «Север—Юг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облема пределов экономического ро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истощение ресурс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экономический глобализ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4"/>
          <p:cNvGrpSpPr/>
          <p:nvPr/>
        </p:nvGrpSpPr>
        <p:grpSpPr>
          <a:xfrm>
            <a:off x="0" y="-52560"/>
            <a:ext cx="9144000" cy="6910560"/>
            <a:chOff x="0" y="-52560"/>
            <a:chExt cx="9144000" cy="6910560"/>
          </a:xfrm>
        </p:grpSpPr>
        <p:pic>
          <p:nvPicPr>
            <p:cNvPr id="174" name="Picture 2" descr="54617327"/>
            <p:cNvPicPr/>
            <p:nvPr/>
          </p:nvPicPr>
          <p:blipFill>
            <a:blip r:embed="rId1"/>
            <a:stretch/>
          </p:blipFill>
          <p:spPr>
            <a:xfrm>
              <a:off x="324000" y="-5256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Rectangle 3"/>
            <p:cNvSpPr/>
            <p:nvPr/>
          </p:nvSpPr>
          <p:spPr>
            <a:xfrm>
              <a:off x="0" y="-5256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WordArt 5"/>
          <p:cNvSpPr txBox="1"/>
          <p:nvPr/>
        </p:nvSpPr>
        <p:spPr>
          <a:xfrm>
            <a:off x="2987640" y="404640"/>
            <a:ext cx="33116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уховные</a:t>
            </a:r>
            <a:endParaRPr b="1" lang="en-US" sz="48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395280" y="1773360"/>
            <a:ext cx="8748720" cy="435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деградация «массовой культуры», девальвация моральных и нравственных ценн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уход людей от реальности в мир иллюзий (наркома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рост агрессии, нервно-психических заболеваний, в т.ч. из-за массовой компьютер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облема ответственности учёных за последствия своих открыт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54617327"/>
          <p:cNvPicPr/>
          <p:nvPr/>
        </p:nvPicPr>
        <p:blipFill>
          <a:blip r:embed="rId1"/>
          <a:stretch/>
        </p:blipFill>
        <p:spPr>
          <a:xfrm>
            <a:off x="324000" y="0"/>
            <a:ext cx="8604000" cy="688356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3"/>
          <p:cNvSpPr/>
          <p:nvPr/>
        </p:nvSpPr>
        <p:spPr>
          <a:xfrm>
            <a:off x="0" y="0"/>
            <a:ext cx="9144000" cy="6910560"/>
          </a:xfrm>
          <a:prstGeom prst="rect">
            <a:avLst/>
          </a:prstGeom>
          <a:gradFill rotWithShape="0">
            <a:gsLst>
              <a:gs pos="0">
                <a:srgbClr val="808080">
                  <a:alpha val="6274"/>
                </a:srgbClr>
              </a:gs>
              <a:gs pos="100000">
                <a:srgbClr val="3b3b3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WordArt 4"/>
          <p:cNvSpPr txBox="1"/>
          <p:nvPr/>
        </p:nvSpPr>
        <p:spPr>
          <a:xfrm>
            <a:off x="1692360" y="260280"/>
            <a:ext cx="61214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литические</a:t>
            </a:r>
            <a:endParaRPr b="1" lang="en-US" sz="48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395280" y="1341360"/>
            <a:ext cx="8748720" cy="478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облема войны и мира: возможность перерастания локальных конфликтов в глобальные, опасность ядерной вой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сохраняющиеся полюса противостояния, борьба за сферы влияния (США – Европа – Россия – Азиатско - Тихоокеанский регио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различия политических систем (демократия, авторитаризм, тоталитариз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терроризм (международный, внутриполитический, уголовный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2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185" name="Picture 3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Rectangle 4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WordArt 5"/>
          <p:cNvSpPr txBox="1"/>
          <p:nvPr/>
        </p:nvSpPr>
        <p:spPr>
          <a:xfrm>
            <a:off x="1692360" y="260280"/>
            <a:ext cx="61214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кологические</a:t>
            </a:r>
            <a:endParaRPr b="1" lang="en-US" sz="48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324000" y="1214280"/>
            <a:ext cx="8820000" cy="435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«озоновая дыра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истребление лес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«парниковый» эффек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загрязнение окружающей среды: атмосферы, почвы, вод Мирового океана, продуктов пит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стихийные бедствия: тайфуны, цунами, ураганы, землетрясения, наводнения, засух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нарушения в окружающей среде, связанные с освоением космоса и Мирового океа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3" descr="54617327"/>
          <p:cNvPicPr/>
          <p:nvPr/>
        </p:nvPicPr>
        <p:blipFill>
          <a:blip r:embed="rId1"/>
          <a:stretch/>
        </p:blipFill>
        <p:spPr>
          <a:xfrm>
            <a:off x="324000" y="0"/>
            <a:ext cx="8604000" cy="688356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4"/>
          <p:cNvSpPr/>
          <p:nvPr/>
        </p:nvSpPr>
        <p:spPr>
          <a:xfrm>
            <a:off x="0" y="0"/>
            <a:ext cx="9144000" cy="6910560"/>
          </a:xfrm>
          <a:prstGeom prst="rect">
            <a:avLst/>
          </a:prstGeom>
          <a:gradFill rotWithShape="0">
            <a:gsLst>
              <a:gs pos="0">
                <a:srgbClr val="808080">
                  <a:alpha val="6274"/>
                </a:srgbClr>
              </a:gs>
              <a:gs pos="100000">
                <a:srgbClr val="3b3b3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WordArt 5"/>
          <p:cNvSpPr txBox="1"/>
          <p:nvPr/>
        </p:nvSpPr>
        <p:spPr>
          <a:xfrm>
            <a:off x="900000" y="1125360"/>
            <a:ext cx="762012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8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57240">
                  <a:solidFill>
                    <a:srgbClr val="339966"/>
                  </a:solidFill>
                  <a:miter/>
                </a:ln>
                <a:solidFill>
                  <a:srgbClr val="bbe0e3"/>
                </a:solidFill>
                <a:latin typeface="Impact"/>
              </a:rPr>
              <a:t>ЭКОЛОГИЧЕСКАЯ </a:t>
            </a:r>
            <a:endParaRPr b="1" lang="en-US" sz="1800" spc="1" strike="noStrike">
              <a:ln w="57240">
                <a:solidFill>
                  <a:srgbClr val="339966"/>
                </a:solidFill>
                <a:miter/>
              </a:ln>
              <a:solidFill>
                <a:srgbClr val="bbe0e3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57240">
                <a:solidFill>
                  <a:srgbClr val="339966"/>
                </a:solidFill>
                <a:miter/>
              </a:ln>
              <a:solidFill>
                <a:srgbClr val="bbe0e3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57240">
                  <a:solidFill>
                    <a:srgbClr val="339966"/>
                  </a:solidFill>
                  <a:miter/>
                </a:ln>
                <a:solidFill>
                  <a:srgbClr val="bbe0e3"/>
                </a:solidFill>
                <a:latin typeface="Impact"/>
              </a:rPr>
              <a:t>ПРОБЛЕМА</a:t>
            </a:r>
            <a:endParaRPr b="1" lang="en-US" sz="1800" spc="1" strike="noStrike">
              <a:ln w="57240">
                <a:solidFill>
                  <a:srgbClr val="339966"/>
                </a:solidFill>
                <a:miter/>
              </a:ln>
              <a:solidFill>
                <a:srgbClr val="bbe0e3"/>
              </a:solidFill>
              <a:latin typeface="Impact"/>
              <a:ea typeface="Impact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05:55:06Z</dcterms:created>
  <dc:creator>admin</dc:creator>
  <dc:description/>
  <dc:language>en-US</dc:language>
  <cp:lastModifiedBy>LEGION</cp:lastModifiedBy>
  <dcterms:modified xsi:type="dcterms:W3CDTF">2015-05-06T08:44:50Z</dcterms:modified>
  <cp:revision>19</cp:revision>
  <dc:subject/>
  <dc:title>Глобальные проблемы человечества</dc:title>
</cp:coreProperties>
</file>